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2B08-40E6-4678-9EE6-780B6EB24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7FEF-AE90-4376-994A-4FA04FAD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0EF1-E477-49B6-81EF-A36954214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39EC-EE0D-435F-9611-D5D19C4C0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4892-15AF-412E-8188-D42B9618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3F7A-9709-40B5-BCA1-471EDB4D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3256-AB1E-47C2-AA78-336B5C7B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D9C9-0003-450D-B2AE-EF1C57CE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D7BB-8F16-4628-A748-DAF899D6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AD30-DE39-45F3-9004-8BC910DA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615C-B541-4019-822A-34DD1870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4EFE-969D-49D3-ADB7-8210B206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229D-1D07-4CC5-837A-FB98F5725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CT 2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and the New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ing Labour 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jobs available to work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job security to work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postsecondary education to life long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career path of climbing ladder to spiral or lateral p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specialization to multi- ski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hierarchical to flatter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Employment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er full time jobs; more contracts, temporary, part-time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ed team work; more responsibility and accountability at all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self directed job seekers selling services on job to job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pay; softening in sal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ation that employees will relocate; more global work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s/Con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Standard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benefits and drawbacks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standard work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of Non-Standar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work flex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mobility, autonomy &amp; work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ility = condition of job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ated increase of women into work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wbacks t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Standard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coupling of work from stable employment and steady income; fewer non-wage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nsecurity; hard work + loyalty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ic under or un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competition rather than solidarity between workers; polarization of work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and economic isolation for those working at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ing of costs of technology, work facilities from firm to individual 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’s Missing in New Econom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ical pro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term commi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e: High Tech Industr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licon Valley, Califor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need to look at themselves as self employed, as vendors who come to this company to sell their skills…In AT&amp;T, jobs are being replaced by projects and fields of work, giving rise to a society that is increasingly jobless but not workless”  (Vice President of AT&amp;T, 199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e Computer’s Employment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re not interested in employing you for a lifetime; that’s not the way we are thinking about this. It’s a good opportunity for both us that is probably finit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ce of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estimate that 70% of Intel’s profits in 1997 will come from products that were not on the market as of January 1 of this year.” Chairman of Board, Intel,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wth in Nonstandard Wor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nta Clara Califor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4 to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orary workers 12,000 – 33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-time workers 136,000 – 18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 employed 45,000 – 76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Economy’: How Ne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tells: the present economic and social situation is a new age, rather than a continuation of industrial capital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ney: network society = development of industrial society leaving capitalism intac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ney:  network society = supercharged version of capitalism; extension of Taylor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ontinuities &amp; discontinuities between network economy and its predecess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table markets, unstable demand fo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e of change in skil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killing and skill upgrading tend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continuous improvement, learning &amp; innovation to remain compet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reflexivity – workers examine and improve their own work processes to meet changing consumer dem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s in IT Employ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in use of the internet and wireless communic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component of IT incre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in the manufacturing compon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ization of the IT supply chain has shifted IT manufacturing production to new locations, often overseas, where labor is relatively inexpe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tworks &amp; Restructur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 Wor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ization has affected the nature of work performed in the economy as much as the quantity of employment.”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w and Langford, in Citizenship Studies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 of work and labour: flexibility versus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Standard Employ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 Flexible work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standard forms of em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-tim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orary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ted worker’ – temp work = one of fastest growing categories of employment in North America &amp; Europe (Naomi Klein, 200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ylorism &amp; Scientific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ial capitalism &amp; rise of factory system associated with introduction in scientific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tific management = direction by engineers, factory planning, time and motion study, standardization, intensive division of lab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cy in factory production; control over workforce; ‘automatic perfection of routin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collection and surveil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Standard Work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 Self Employ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cts, consulting, free lanc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s, small business owners, independent crafts people, trades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 man is out. Flexible woman is in.” (Castells, 20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gent employment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standard Work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 Temporal &amp; Spatial Dislo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oral dislocation = work not confined to 8 hour day, Monday – Friday work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flex time geared to flow of de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ersification of work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tial dislocation = home work, call centres, telecommu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Standard Work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4 End of Single Occupational Trajectory or Fi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 in long term job stability in a single firm for entire car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ion that in 40 year career, people will revamp skill sets 3 times and change jobs 11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folio workers – people who move from 1 task, contract or project to next developing a network of portable skills, contacts, experi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standard Work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 Lifelong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constant upgr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ize flexibility and mo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 technological, skill and organizational compatibility with demands of new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 programmable versus generic la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9:00:46Z</dcterms:created>
  <dc:creator>Sheridan</dc:creator>
  <dc:description/>
  <dc:language>en-US</dc:language>
  <cp:lastModifiedBy>Sheridan</cp:lastModifiedBy>
  <dcterms:modified xsi:type="dcterms:W3CDTF">2009-01-27T18:16:48Z</dcterms:modified>
  <cp:revision>21</cp:revision>
  <dc:subject/>
  <dc:title>CCT 205</dc:title>
</cp:coreProperties>
</file>